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A71FA-3938-4CFA-BE36-89713B54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E6678-ECBE-41A7-A813-844F8B88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A57A4-03C8-4B16-8BA6-2D9FC7E4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62F17-CE7A-4C58-AC27-1DB0C93F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BB4F-41D0-4924-A371-C35AA236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05B1-DBA2-4897-B5C4-F7CE3D48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EB52-DE45-4F33-9EFB-88F8D7D5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6442-5780-43A1-A9B0-B92EBFA6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5582-C118-4F5E-BADA-AD1BA706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CA47-3B76-44C0-88FB-FAC2B989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57A0-1216-4D04-BA6E-5A9F0AC6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FA752-0DAF-4A19-897B-EC69E881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45A4-C2C5-4702-BEC2-068439C0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D98C-1BEB-4786-8485-FE7CC8BC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00F1-2DE2-4258-8957-7272358E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5935-677B-4909-8710-ED236690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0321-D0F8-4C47-8441-ED75FFAD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3C650-975E-4F63-92E5-DCCCB902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D7E5D-E1C7-4D6E-8EB3-D630F5AF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D162-86D2-418E-95A0-9E8FAE56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0F8F4-A515-4FC8-A1AB-AEB10663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F639F-E120-4CF6-BB53-DBEDFA1D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DA0D3-3605-4BB8-ABB6-1D7D8BA3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DFAED-42E6-4576-84C8-904C3A9E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6B28-6213-437E-8487-829C99DE29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6D42-CCCD-487F-AE3C-A9047435B2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The Gilded Age and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Urban and Rural Disconten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PUSH – Unit 7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ading Key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ey and McKinle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633-6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of 18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 vs. Si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of G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Silver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Popu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rbanization/Immig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565-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of Urban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e of Im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&amp;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ve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 Change and Refor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578-59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win’s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-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er T. vs. W.E.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tio Al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’s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hibition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e of the Railroa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 536-5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sion of the Rail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ontinental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s and inno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actions and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bber Barons / Gospel of Weal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545-5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Carn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D. Rockef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P. Mor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Darwi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spel of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ing Economy of the South &amp; Rise of Labor Pages 551-56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vs.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ights of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market Ri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Federation of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sing the Western Fronti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598-6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n ‘Wa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alo Wa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rvations and assim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of m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nchers and Farm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609-6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of the Fron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tle Dr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st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ight of the Far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s’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rrison and the Rise of Populis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623-6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ion Dollar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impact /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e of the Popul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of 18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ic of 18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man Str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9:56:09Z</dcterms:created>
  <dc:creator>School District U46</dc:creator>
  <dc:description/>
  <dc:language>en-US</dc:language>
  <cp:lastModifiedBy>School District U46</cp:lastModifiedBy>
  <dcterms:modified xsi:type="dcterms:W3CDTF">2009-01-12T13:07:47Z</dcterms:modified>
  <cp:revision>2</cp:revision>
  <dc:subject/>
  <dc:title>The Gilded Age and Urban and Rural Discontent</dc:title>
</cp:coreProperties>
</file>